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A1D-C347-467F-B2B9-13B626CF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912-4DBE-4CB9-AD47-14FA66E4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04D3-C404-4646-859C-2B13D13E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5D1-0EEE-4B8B-9988-11C25B9D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DCEC-8A28-4EDE-A266-3E06848D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FBAE-2251-401C-92AB-974FC927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6FA3-0953-4A0D-B763-FB2689B1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5071-1F85-45FB-A6B9-D20C3AF7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F102-FD45-4402-B634-C94A00E1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D06B-202A-4A89-8140-71A637A1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C393-88DA-4A45-9E04-C8467A1C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C8F-B3D4-4CF0-A235-A19DB03B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4F1C-CE24-4E31-B4F8-9B3E0DE9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FFC4-4698-4D34-A261-7D980D2A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6DAA-3411-408B-8B83-5DF419C7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E2ED-0AAF-4D80-8092-ABEBFF8B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49BC-2FD0-415B-AFFC-F95F2C4D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B3A-C14A-494A-AEBE-CB99CF1D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324-7497-4CA6-9368-D37EB63B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6A6-C499-4EF4-9DB4-F0D07391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9D7-006C-4890-8AA0-1CE1D135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2EE-6E2D-480B-B398-93337EA7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CB77-4F3B-4BE6-9AF4-6D5339FF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DAE-225F-4326-8CBB-6428CADB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490F-E58D-4AF0-B7F6-5306B675A40D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C5FF-1C55-477D-A21A-39904C956243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google.co.nz/imgres?imgurl=http://img292.imageshack.us/img292/723/priestza9.jpg&amp;imgrefurl=http://arbroath.blogspot.com/2007_11_04_archive.html&amp;usg=__mkfinMhfLv8pOS3EjuVfKo7e2QU=&amp;h=442&amp;w=300&amp;sz=9&amp;hl=en&amp;start=5&amp;tbnid=9qJohibSo1karM:&amp;tbnh=127&amp;tbnw=86&amp;prev=/images%3Fq%3Dalcoholic%2Bpriest%26gbv%3D2%26hl%3Den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.nz/imgres?imgurl=http://www.virginmedia.com/images/cleaner-housewife-g.jpg&amp;imgrefurl=http://www.virginmedia.com/jobs/features/how-much-would-housewives-earn.php%3Fssid%3D3&amp;usg=__tBpR3TcAdUXRNS8Rr6BJrb86DyQ=&amp;h=424&amp;w=283&amp;sz=20&amp;hl=en&amp;start=13&amp;tbnid=dRL0l5yw_bnhjM:&amp;tbnh=126&amp;tbnw=84&amp;prev=/images%3Fq%3Dhousewife%26gbv%3D2%26hl%3Den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.nz/imgres?imgurl=http://blogs.sltrib.com/tv/uploaded_images/secret_diary_call_girl-781918.jpg&amp;imgrefurl=http://blogs.sltrib.com/tv/archive/2008_06_01_archive.htm&amp;usg=__S42nXy0Up3pxnQlaziVEHDX03e8=&amp;h=300&amp;w=460&amp;sz=16&amp;hl=en&amp;start=3&amp;tbnid=RU_tdSWc82B_xM:&amp;tbnh=83&amp;tbnw=128&amp;prev=/images%3Fq%3Dcall%2Bgirl%26gbv%3D2%26hl%3Den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.nz/imgres?imgurl=http://www.larsontrainingcenters.com/images/IMAG0024.JPG&amp;imgrefurl=http://www.larsontrainingcenters.com/courses.html&amp;usg=__VzdNLC2rDsS6MuRTHhRsVcXqIA4=&amp;h=450&amp;w=600&amp;sz=35&amp;hl=en&amp;start=2&amp;tbnid=Djx_xDAXZwIn7M:&amp;tbnh=101&amp;tbnw=135&amp;prev=/images%3Fq%3Doffice%2Bclerk%26gbv%3D2%26hl%3Den" TargetMode="External"/><Relationship Id="rId9" Type="http://schemas.openxmlformats.org/officeDocument/2006/relationships/image" Target="../media/image13.jpeg"/><Relationship Id="rId10" Type="http://schemas.openxmlformats.org/officeDocument/2006/relationships/hyperlink" Target="http://images.google.co.nz/imgres?imgurl=http://www.izzetzorlu.com/2005/Nov/15/cleaning-lady.jpg&amp;imgrefurl=http://www.izzetzorlu.com/2005-second-half.htm&amp;usg=__ZdFn-htxZwBfgo56vF3fqRgFMlw=&amp;h=700&amp;w=525&amp;sz=68&amp;hl=en&amp;start=5&amp;tbnid=ClI35IOMBQ66NM:&amp;tbnh=140&amp;tbnw=105&amp;prev=/images%3Fq%3Dcleaning%2Blady%26gbv%3D2%26hl%3Den" TargetMode="External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99cc00"/>
                </a:solidFill>
                <a:latin typeface="Tahoma"/>
              </a:rPr>
              <a:t>The Maori Jes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By James K Bax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720108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932000" y="1981080"/>
            <a:ext cx="367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First day he was arrested for having no lawful means of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35816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He was lobotomize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4105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Lobotomi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cutting the connections to and from, or simply destroying, the prefrontal cortex in the brai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result in major personality changes and possible mental retarda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were used in the past to treat a wide range of severe mental illnesses, including schizophrenia, clinical depression, and various anxiety disorder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Used to control minor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86680" y="1413000"/>
            <a:ext cx="2857320" cy="2257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076720" y="3716280"/>
            <a:ext cx="36864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Key ideas in </a:t>
            </a:r>
            <a:br>
              <a:rPr sz="4400"/>
            </a:b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The Maori Jes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Baxter was </a:t>
            </a:r>
            <a:r>
              <a:rPr b="1" lang="en-NZ" sz="2800" spc="-1" strike="noStrike">
                <a:solidFill>
                  <a:srgbClr val="99cc00"/>
                </a:solidFill>
                <a:latin typeface="Tahoma"/>
              </a:rPr>
              <a:t>critical of organised religion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, “respectable parish[es]”,  and puritanical, judgemental attitu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He was </a:t>
            </a:r>
            <a:r>
              <a:rPr b="1" lang="en-NZ" sz="2800" spc="-1" strike="noStrike">
                <a:solidFill>
                  <a:srgbClr val="99cc00"/>
                </a:solidFill>
                <a:latin typeface="Tahoma"/>
              </a:rPr>
              <a:t>moved by the suffering of the outcast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in society in NZ and had compassion on them. E.g. started Narcotics Anonymous group  in Grafton for addi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He believed the </a:t>
            </a:r>
            <a:r>
              <a:rPr b="1" lang="en-NZ" sz="2800" spc="-1" strike="noStrike">
                <a:solidFill>
                  <a:srgbClr val="99cc00"/>
                </a:solidFill>
                <a:latin typeface="Tahoma"/>
              </a:rPr>
              <a:t>true spirit of Christianity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was to </a:t>
            </a:r>
            <a:r>
              <a:rPr b="1" lang="en-NZ" sz="2800" spc="-1" strike="noStrike">
                <a:solidFill>
                  <a:srgbClr val="99cc00"/>
                </a:solidFill>
                <a:latin typeface="Tahoma"/>
              </a:rPr>
              <a:t>reach out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 and </a:t>
            </a:r>
            <a:r>
              <a:rPr b="1" lang="en-NZ" sz="2800" spc="-1" strike="noStrike">
                <a:solidFill>
                  <a:srgbClr val="99cc00"/>
                </a:solidFill>
                <a:latin typeface="Tahoma"/>
              </a:rPr>
              <a:t>journey with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 the </a:t>
            </a:r>
            <a:r>
              <a:rPr b="1" lang="en-NZ" sz="2800" spc="-1" strike="noStrike">
                <a:solidFill>
                  <a:srgbClr val="99cc00"/>
                </a:solidFill>
                <a:latin typeface="Tahoma"/>
              </a:rPr>
              <a:t>downtrodden and dispossessed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, rather than judge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Features of the poe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Imagery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(see following slid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Connotative language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e.g. long hair, dungarees – associations of unkempt, working class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Biblical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al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Extensive use of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parallel structures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– gives sense of a Biblical narrative  e.g.  “When he smiled/frowned/broke wind”  and  “The first day/second day”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Features of the poe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one = starts fairly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neutral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, some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humour,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presents images that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clash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with our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stereotypical image of Christ/disciples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, ends on an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ominous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no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Language – use of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NZ slang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(dee, screw) Maori words (paraoa) and refers to local places (Porirua, Mt Crawfor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Use of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colloquialisms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(head doctor, cops, shit) gives the poem an earthy feel and constrasts with the formality of the stru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Images of Jesus in the poe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NZ" sz="3200" spc="-1" strike="noStrike">
                <a:solidFill>
                  <a:srgbClr val="99cc00"/>
                </a:solidFill>
                <a:latin typeface="Tahoma"/>
              </a:rPr>
              <a:t>humble, everyday Jesus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who is made </a:t>
            </a:r>
            <a:r>
              <a:rPr b="0" lang="en-NZ" sz="3200" spc="-1" strike="noStrike">
                <a:solidFill>
                  <a:srgbClr val="99cc00"/>
                </a:solidFill>
                <a:latin typeface="Tahoma"/>
              </a:rPr>
              <a:t>familiar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to us by being placed in a </a:t>
            </a:r>
            <a:r>
              <a:rPr b="0" lang="en-NZ" sz="3200" spc="-1" strike="noStrike">
                <a:solidFill>
                  <a:srgbClr val="99cc00"/>
                </a:solidFill>
                <a:latin typeface="Tahoma"/>
              </a:rPr>
              <a:t>NZ context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and being </a:t>
            </a:r>
            <a:r>
              <a:rPr b="0" lang="en-NZ" sz="3200" spc="-1" strike="noStrike">
                <a:solidFill>
                  <a:srgbClr val="99cc00"/>
                </a:solidFill>
                <a:latin typeface="Tahoma"/>
              </a:rPr>
              <a:t>Mao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E.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He wore blue dungare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alking on Wellington harbou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He did no miracles.  He played the guitar sitting on the ground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Images of Jesus in the poem cont’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In touch with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creation, supernaturally powerful,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with a good sense of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 hum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E.g  “when he broke wind the little fishes trembled”, “when he laughed everyone got drunk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Inspired and divine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- but seen as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mad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by society and </a:t>
            </a: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persecuted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for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E.g. “On the sixth day he told the head doctor, ‘I am the Light in the Void.”  The seventh day he was lobotomize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Images of 1960s NZ socie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A sick, decayed society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e.g.  “An alcoholic priest going slowly ma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A society with no compassion for the downtrodd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E.g.  “he was charged with being a Maori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He was arrested for having no lawful means of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00"/>
                </a:solidFill>
                <a:latin typeface="Tahoma"/>
              </a:rPr>
              <a:t>A society with the wrong prior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brain of God was cut in half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ile deep civilised darknes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eaeaea"/>
                </a:solidFill>
                <a:latin typeface="Tahoma"/>
              </a:rPr>
              <a:t>Images of outcasts and misfits in society – those looked down on by ‘respectable society’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bearded, long haired Maori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wearing blue dungarees with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smelly breath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, who was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arrested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nd put in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prison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, thought to have a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mental illness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and them lobotom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Railway station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toilet clean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call girl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with no self respect (free se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 non-conformist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housewife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(doesn’t use contraception, doesn’t watch T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rebellious office clerk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(a “traitor” to the established order, tries to set fire to govt building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 old sad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queen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(confused gender identi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NZ" sz="2400" spc="-1" strike="noStrike">
                <a:solidFill>
                  <a:srgbClr val="99cc00"/>
                </a:solidFill>
                <a:latin typeface="Tahoma"/>
              </a:rPr>
              <a:t>alcoholic priest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(failed his call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Your turn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at do you think was Baxter’s PURPOSE in this poe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How well do you think he achieved that purpo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7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Stereotypical images of Jes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333960" cy="4743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3467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Baxter’s Maori Jes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762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In groups, fi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Local references - NZ people, places, words,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Biblical al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ocial outsiders &amp; rule-brea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igns of sickness in soc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His breath smelt of mussels and parao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1981080"/>
            <a:ext cx="288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ood paraoa is less likely to go unnoticed. Paraoa is a bread unleavened by commercial yeasts; rather it uses wild yeasts captured and cultured with mashed potat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796000" y="1916280"/>
            <a:ext cx="2585880" cy="194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492360" y="3789360"/>
            <a:ext cx="3221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Mt Crawfor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16000" y="1981080"/>
            <a:ext cx="389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n 2008 the Dept of Corrections shut down Mt Crawford prison and moved inmates to Rimutaka and Arohata pris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3719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The dis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952720" cy="1968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1484280"/>
            <a:ext cx="1676160" cy="2476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3789360"/>
            <a:ext cx="1744560" cy="261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08720" y="4437000"/>
            <a:ext cx="2697120" cy="1749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24360" y="1844640"/>
            <a:ext cx="2227320" cy="1666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43280" y="378936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5157720"/>
            <a:ext cx="82152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He did no miracles.  He played the guitar sitting on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a17012007-19712.jpg"/>
          <p:cNvPicPr/>
          <p:nvPr/>
        </p:nvPicPr>
        <p:blipFill>
          <a:blip r:embed="rId1"/>
          <a:stretch/>
        </p:blipFill>
        <p:spPr>
          <a:xfrm>
            <a:off x="324000" y="593640"/>
            <a:ext cx="3995640" cy="3772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324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1:07:12Z</dcterms:created>
  <dc:creator>egraham</dc:creator>
  <dc:description/>
  <dc:language>en-US</dc:language>
  <cp:lastModifiedBy>egraham</cp:lastModifiedBy>
  <dcterms:modified xsi:type="dcterms:W3CDTF">2010-03-03T22:00:50Z</dcterms:modified>
  <cp:revision>8</cp:revision>
  <dc:subject/>
  <dc:title>The Maori Jesus</dc:title>
</cp:coreProperties>
</file>